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68A-A207-427F-9F8D-7C186858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169-A303-4C2F-A338-D468D5A4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DEC-2791-4E10-829B-4BDE4918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76E-42A8-47E8-A1B6-B087320F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19A2-4B94-4DA8-8B69-AC706857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B1EC-5413-4A39-A0D5-8F68DD7A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810-9D7B-4B93-850D-19030A5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2F3E-73A7-47D4-8D65-4CFD86E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F2AA-ABB0-4428-8830-6BD3AD64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8790-749E-4ADA-B03B-C5BAF7E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AD71-5147-4D91-8F70-510CB25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16B-F464-4461-AA3B-B1269C0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087-061E-4F52-93DA-36DA1822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01AC-232E-4712-B2F7-B73ACA6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6E9C-3B9E-44AD-AB91-50D42595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5DA0-8C3C-4CD3-9591-5159C81D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4E6A-E318-4C6F-A647-6AFAFFDB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638-BD95-460E-8C2D-4CDD4E7E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DDF-0C61-4CAD-9E5E-F2ADDC5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AEA-59E5-4C03-84BD-CB634155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039-A859-4977-A08D-A16DFF6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32C-A1BF-45D4-B2A3-D152D73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33B-7B94-4140-AA5E-1DCCE1A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809-A773-408B-8CBB-6C53697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2E10-FE1D-4474-A8F9-F3643F4D5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F7A-1AD9-493C-968C-7AA54B1E0B7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Italian family on ferry 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ps.ablongman.com/wps/media/objects/124/127330/images/1903.jpg"/>
          <p:cNvPicPr/>
          <p:nvPr/>
        </p:nvPicPr>
        <p:blipFill>
          <a:blip r:embed="rId1"/>
          <a:stretch/>
        </p:blipFill>
        <p:spPr>
          <a:xfrm>
            <a:off x="228600" y="12600"/>
            <a:ext cx="86104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Old-time steel worker on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6666" t="0" r="3331" b="8231"/>
          <a:stretch/>
        </p:blipFill>
        <p:spPr>
          <a:xfrm>
            <a:off x="228600" y="0"/>
            <a:ext cx="86104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From Sicil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6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talians at Ellis Island.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A group of German immigra"/>
          <p:cNvPicPr/>
          <p:nvPr/>
        </p:nvPicPr>
        <p:blipFill>
          <a:blip r:embed="rId1"/>
          <a:stretch/>
        </p:blipFill>
        <p:spPr>
          <a:xfrm>
            <a:off x="0" y="0"/>
            <a:ext cx="9144000" cy="6586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Bohemian. Ellis Island (J"/>
          <p:cNvPicPr/>
          <p:nvPr/>
        </p:nvPicPr>
        <p:blipFill>
          <a:blip r:embed="rId2"/>
          <a:stretch/>
        </p:blipFill>
        <p:spPr>
          <a:xfrm>
            <a:off x="0" y="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938240" y="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5" name="Picture 2" descr="Climbing Into America. El"/>
          <p:cNvPicPr/>
          <p:nvPr/>
        </p:nvPicPr>
        <p:blipFill>
          <a:blip r:embed="rId1"/>
          <a:stretch/>
        </p:blipFill>
        <p:spPr>
          <a:xfrm>
            <a:off x="181764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2114640" y="-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7" name="Picture 2" descr="Ellis Island, Italian Mad"/>
          <p:cNvPicPr/>
          <p:nvPr/>
        </p:nvPicPr>
        <p:blipFill>
          <a:blip r:embed="rId1"/>
          <a:stretch/>
        </p:blipFill>
        <p:spPr>
          <a:xfrm>
            <a:off x="2247840" y="0"/>
            <a:ext cx="47815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talian mother &amp; child at"/>
          <p:cNvPicPr/>
          <p:nvPr/>
        </p:nvPicPr>
        <p:blipFill>
          <a:blip r:embed="rId2"/>
          <a:stretch/>
        </p:blipFill>
        <p:spPr>
          <a:xfrm>
            <a:off x="1828800" y="0"/>
            <a:ext cx="551016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ttp://upload.wikimedia.org/wikipedia/commons/thumb/e/ee/Madonna_and_Child_(Filippo_Lippi).jpg/395px-Madonna_and_Child_(Filippo_Lippi).jpg"/>
          <p:cNvPicPr/>
          <p:nvPr/>
        </p:nvPicPr>
        <p:blipFill>
          <a:blip r:embed="rId3"/>
          <a:srcRect l="0" t="14303" r="0" b="0"/>
          <a:stretch/>
        </p:blipFill>
        <p:spPr>
          <a:xfrm>
            <a:off x="1828800" y="0"/>
            <a:ext cx="55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212868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1" name="Picture 2" descr="Italian family looking fo"/>
          <p:cNvPicPr/>
          <p:nvPr/>
        </p:nvPicPr>
        <p:blipFill>
          <a:blip r:embed="rId1"/>
          <a:srcRect l="0" t="10641" r="0" b="0"/>
          <a:stretch/>
        </p:blipFill>
        <p:spPr>
          <a:xfrm>
            <a:off x="213372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Ellis Island (Children 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ome of the so-called he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reaker boys in coal mine"/>
          <p:cNvPicPr/>
          <p:nvPr/>
        </p:nvPicPr>
        <p:blipFill>
          <a:blip r:embed="rId3"/>
          <a:stretch/>
        </p:blipFill>
        <p:spPr>
          <a:xfrm>
            <a:off x="152280" y="23760"/>
            <a:ext cx="87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posterous.com/getfile/files.posterous.com/styx/yuatIBdwFHAictaoovttJEphjmGEcoCuGjCbacwgIcseJFwmzmDhIjbBjCpp/media_httpuploadwikimediaorgwikipediacommonsthumb88eNYCMulberryStreet3g04637ujpg800pxNYCMulberryStreet3g04637ujpg_ChdJcddBowvcsFi.jpg.scaled1000.jpg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://www.newhopepa.com/PlanetEarth/NYC032103/Ellis_Island/NY8984_750.jpg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39:38Z</dcterms:created>
  <dc:creator>Authorized User</dc:creator>
  <dc:description/>
  <dc:language>en-US</dc:language>
  <cp:lastModifiedBy>Brent J. Freccia</cp:lastModifiedBy>
  <dcterms:modified xsi:type="dcterms:W3CDTF">2010-02-03T15:34:55Z</dcterms:modified>
  <cp:revision>9</cp:revision>
  <dc:subject/>
  <dc:title>PowerPoint Presentation</dc:title>
</cp:coreProperties>
</file>